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CEE8-6F82-4731-94F0-3760DEB09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dule Five, I learned how to find a citation for an article in Academic Search Premier. Now, how do I locate the article? I can use the Pacific Link button to che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 could be full text in Academic Search Premier. Or it could be full-text in a different database. The article may be located in print, in the Pacific Libra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article is not full-text online or in print at the library, I can request it using InterLibrary Lo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link on the library home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DEFF-618B-4863-AF85-4AF81B58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033-9318-4B33-8FB4-08B61998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697C-FB9D-40FF-8ACE-1328C8FF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194-CE17-4622-8F50-A9501DD9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DED-30AB-4532-82B2-D8C093DD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DBF-714D-4C5C-8856-74A033AB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D41C-E186-4233-A532-DF31D1B3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0FD-CF25-418B-9EEB-718B7296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214-2DD7-4415-A6DA-28CF53AE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A9F0-7C37-4FD3-AF4A-177B2E8C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9A4-0074-4777-A400-790E944A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8D4-CD42-4AF7-8D20-8DBB2C71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E0C7-05AA-4AFF-92A8-829B0BCB6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the Citation to the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ve found a citation in Academic Search Premier, now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the PacificLink button to locate the arti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articles may not be online or at the libr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Module f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of Jane with jour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00:02:13Z</dcterms:created>
  <dc:creator>lknight</dc:creator>
  <dc:description/>
  <dc:language>en-US</dc:language>
  <cp:lastModifiedBy>lknight</cp:lastModifiedBy>
  <dcterms:modified xsi:type="dcterms:W3CDTF">2006-12-21T22:13:56Z</dcterms:modified>
  <cp:revision>6</cp:revision>
  <dc:subject/>
  <dc:title>From the Citation to the Article</dc:title>
</cp:coreProperties>
</file>